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03839-0589-43A0-8342-7788E10EB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nanční manažer  0,2 * 20.000 = 4.000 Kč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DB7E3-3A1D-43D2-AC49-967D07FF5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851F6-A81F-4914-973D-1D0583E66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C6F35-7BAC-4AF8-AA17-537F742B6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01CC0-3525-4000-AF51-D2FCCBA71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909-BB8B-45C0-8751-80D50FB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5FB-D6CF-47E2-92E5-D124B164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AE02-5D92-4100-94BD-B9CBF74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39A9-4366-4566-B98D-1D0EB61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0304F-8D11-482F-B880-46E7995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CBB52-30E6-4D26-800B-352B5FF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1BB3-D089-4DB3-9C1B-9F6D864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9537-C015-4083-BAB0-470E278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FD4C-82EC-4771-A74F-2F53A3B4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C9BF-DB5B-467B-BBA3-68E1CB07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11CB3-AAA6-41F4-8B12-0A4193FC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8814A-DBCE-4679-A845-7C5292C3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6E4-74C9-4C0D-893C-8CAA25FA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86B6E-6EB8-4070-B2DF-3117CFC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78E8F-958A-4FFF-B61C-95C1F1B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BF188-4C06-47C5-AC0D-DC036B87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E261E-E0B1-455C-9C5F-39BCEDD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9853A-5F0A-4687-BADA-C50B1AC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E5182-B9CE-4D8D-931D-32E3307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BC2C9-6606-4AFE-9491-117E836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5F34B-2D33-4C46-868D-7DB65C8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21A44-D95C-42D3-97CE-FAD68E9F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8C17A-954F-4BA6-BE17-51A6CB76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FD2-48C8-4AD2-B3DD-259F975C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127FD-C4CE-4B8E-9F8D-50E25952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1428-CA4E-4F46-B46E-1FC9E8A6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FF0E-5AFC-4FDC-B726-70D89A19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5BFF1-0633-47DB-8CC5-C628BD58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E099A-62A6-4F57-BD2A-3E0457D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0FD6E-92D2-4473-B551-FAE834B5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0560-60E6-4B09-B8BE-75ADC03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8259-FC73-4E1E-B17E-27FC933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3898-A48D-4BE0-9502-A9DEA27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BF0F5-BC91-40E7-B9AF-A51F2567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4686-FBB6-4884-A174-833E06F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07DD-C047-4CB7-8A0E-D241153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6B434-498A-4716-8F99-A010DDF8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EB12-D324-49C0-865B-0A1B289F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598E-AD4E-4D3D-97AA-ECF3C8CF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CD76-AD97-4D5F-A039-E6A1A82A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97605-7AA0-4B78-B98B-3A75767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15FE4-2912-45DF-A782-3F78CDE1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F8936-37A9-4892-A771-BFC1487A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A4B64-B0B3-47E8-B6AE-E166A1A3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E752-5E76-4531-87AA-67235CC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13E-94E7-48C7-A824-2B9CDF4E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A2971-EAF2-4840-807D-BE57ED40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86CE1-2AB3-4F9A-A39D-632D740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D8E0C-92B4-4E1F-AC3F-8E5F051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B5356-A477-449B-90C5-AAD0107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7902-53F8-4F1B-8935-5C513007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C215-03F9-4082-8580-D3DE3072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A1CB-5486-4AB2-A0AE-8C2274B7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581-6342-4ECF-98BA-48C979C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9879-6FB6-47D0-98B8-ACC5477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CB1-47AA-424C-B589-23AE878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D20-2DFB-4D6B-BDB3-901474CF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3E1-9253-4AC2-83BD-841D8AE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DE6A-8668-4621-A7F6-7F7C800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5272-3B6F-4E4F-BEAA-1E04197C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CE0-65B7-48FE-85B5-E6A67DB4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2651-08B1-494B-BBFC-32D1A875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56D7-0B16-40E7-BFB9-89F0DCCC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0016-76AD-4467-B195-60A1B1C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04AA-C1C7-4358-9362-BF917933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E9D1-7CBF-4479-90B0-5C30E8B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30BA-F2BF-4BD5-94D1-8437C73F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60D-BFBD-453C-AE0A-69EF7F0E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C6ED-958D-49CA-B88D-3E9CEB1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DD0B-0390-47A6-AAB7-7E3887B3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D21B-84D1-4FDA-BE2C-9CC6CA4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5778-4902-421B-938C-62E5360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F425-8122-4822-A078-8D530377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0306-92A5-48B1-85C0-3C705F16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B5CE-4E1B-4F77-B50A-BAE815DA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2BF8-0ED9-40FC-A6BE-1F87221C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47EB-1BB2-47F6-A8E1-98F9F13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0896-4B6E-44B9-A586-D61E0C4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6F0-41F7-4BEC-A7FA-08DBE79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B051-6114-4C16-B0A6-9BE0D92B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E8FEE-102F-48A4-B177-FA4ED3B7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80ED-AF1F-4E96-A72A-052EC206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764C-FB43-4052-8CC0-0F2A67A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D5D9-ABA7-45C6-AA76-4879708C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AA0E-9C6A-43AC-9A19-F82EA41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A0E1-320D-4E90-8194-185C3D0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0B6B-C7E6-4DCD-AFB4-47B466A6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09AA-D3F4-437D-80E6-70DE9737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A7D9-B2F2-4279-BAC7-F5972A16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6F5-68A8-4B81-BB9A-A4795D2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6556-0B71-4811-B3C5-9D2DB657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57B1-A590-4D71-BD1E-7D2DF2C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106C-0EB5-4A87-B65D-7054264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514D-7FC0-475D-A050-D4BE6A11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1B5C-F3B1-4D5A-B81F-8B9E100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7543-370A-49E5-AA57-D5C7C3B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E2AD6-E8C8-448F-99B5-92A4050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A85A9-CDCD-4773-8E7A-8FD22E0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FB73-BBD0-45A3-8414-AAE459A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68DB-B42E-47D5-B34E-EBD3B1E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483-21DA-4E9E-9D95-ED5BF89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139CE-95BF-4F30-9A63-D068611E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C17E-AA75-4117-A1E6-7EA4FD7C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2D1D-348C-4DA4-9036-0053C6CE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5FDF-FDAD-4E48-BB57-EF850C0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485C-F32E-458B-BB6F-BE5A4C4F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8F8E-E377-4E5D-A80B-A741D0C2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638D-355C-412F-9E1B-5FED755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87CC-D869-4271-BD0C-5509B04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61BB-D6DE-4222-AEC1-3C8C507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DC3C-AB4E-43FD-9954-651F973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DF9-F54D-4C58-93E5-97ABF05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1688-9A48-47F9-95EA-826399F5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AB5D8-4C75-449C-8C8A-01581AB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558A-A029-4DF1-B088-CD4F655F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09AE-61BF-4B67-812A-01F9190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279E-6FE8-41A6-95BE-204CA28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AF086-E197-4CE9-8408-461C8A3E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67C3B-BF06-45F3-94B5-5D7A5377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725F4-18F8-4AF6-8D29-7BE34B4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BC3FA-D728-47EA-83D3-820B8913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2850-7A1C-4CCA-BBAC-A98E7C8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700-85DF-472A-994E-DAB9DA3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62B0-CCD8-45D5-835D-9F55A39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C527F-5EDF-4ED9-A365-F09C435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C9FB-5246-48A5-A028-E5EC1FC4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6C75F-C2FE-4335-B2D1-2E46A3DE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70CE-40EF-4195-80BD-4D5668B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4601-3286-4A45-8007-81F1F23A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5443-031E-4BE3-8155-FB8E325B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757E-DC05-4DF1-9D2B-EFF10BB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8322-773C-4364-8A30-0E2E520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D3E9-534F-498E-A712-8E385C4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B13-9D15-41CE-A0C7-0E405A3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39189-D252-4F61-811A-7CD6BBB8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1649-1C01-404A-AE6A-6C51A5D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A3BA-C611-4218-97E4-04762FC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8E3F-8F8C-4911-98F9-F15393A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AEE7-83F1-4CEC-ACD4-B2CE1B6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A4898-6E2E-4F31-806D-70A38395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45FA-EAB4-4DD7-8EA0-27D1F1F1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BCF1-1006-4236-963F-F391D3D8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2A8ED-A0F6-41B8-B160-D9FDC78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7A93F-143E-45A0-A2D1-C6D595E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9C086-929E-41E1-B432-3A171CF7B1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0E3A5-5C37-4320-B195-0DB93E8E2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2199C4C-0C6C-48F2-896E-32D951BA9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D04EC-B468-4040-B5BD-E69EC3AB13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30431-6B68-4085-B2CD-A22D08585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B4899-B268-4E3D-88A4-237FCCA04D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AFFF-0DD9-4521-9575-43C924875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0844-F319-4219-A478-9A48DC9778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E6C8-4807-4A87-B93D-1EF8BFE16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9E144-B6B7-4CDE-A5E3-F4FAD585B0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02BD6-EC26-438B-97C6-54BF05ECA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FF43A-A07F-4A78-B004-4E3B6D118A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A66B3-99A5-4916-8265-781CE68EF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88FE8-29AF-43B8-8F0C-8F5191279F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52C06-EA54-415B-99FD-77D18951E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37FED-CCE1-4B4D-B0F4-B00FD9618B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267EA-6E2E-43C0-A77E-63F349F46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FB854-4770-477F-A258-AF5138E06C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44F73-A5D6-4732-814B-2697189AC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114E0-C35D-4273-BD7A-59F597F768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92679-9DF0-4B10-96B3-C09120824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EF7E5-0835-476C-9446-6B7A2C9AE1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D546D-26B5-47AB-BBA3-091C5B7B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A5625-AC94-4DEC-986B-AAE792B0F6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AB23E-C238-49A9-BDB2-DF682F054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Ing. Ivana Baloušková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08F65-EF20-4EBB-BDE6-08C8DB049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B453A-A575-4875-974A-AC13CA094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 smlouva, DPP, DPČ, ev. autorské honorář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44572-9FBA-44E7-A1EC-8C7D0DCFC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814320" y="166536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06" name="Šipka doleva 6"/>
          <p:cNvSpPr/>
          <p:nvPr/>
        </p:nvSpPr>
        <p:spPr>
          <a:xfrm>
            <a:off x="5753160" y="40752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Šipka doprava 7"/>
          <p:cNvSpPr/>
          <p:nvPr/>
        </p:nvSpPr>
        <p:spPr>
          <a:xfrm rot="18280200">
            <a:off x="1257840" y="455832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3ABC9-AD07-4FDA-83E4-EFE942E15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1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2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Šipka doleva 12"/>
          <p:cNvSpPr/>
          <p:nvPr/>
        </p:nvSpPr>
        <p:spPr>
          <a:xfrm rot="7954800">
            <a:off x="1500120" y="3465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délník 13"/>
          <p:cNvSpPr/>
          <p:nvPr/>
        </p:nvSpPr>
        <p:spPr>
          <a:xfrm>
            <a:off x="1348200" y="5113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využívejte komentář k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8AFFA-6B6B-46A8-8E56-AC6D5BAB7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9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9D03F-2E63-41E7-85D3-C298312DA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192240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3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B4DBF-46F3-497E-AA6B-9CA1CE1FB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zahraniční expert v ČR, per diems 230 €/de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ubytování, 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6BA41-976C-4C6C-B924-E388DC207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sp>
        <p:nvSpPr>
          <p:cNvPr id="630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8A086-2EF0-4F87-BF4B-231A5D2C0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8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DD283-BEB7-42CC-8B9B-2247CCC3C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robný hmotný majetek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95B2C-FD3B-4E64-BE03-4A3166FBA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Výdaje na opravy a údržb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B6A5F-0E54-404C-861C-6B02DED52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nční podpora na 1 IPO pro jednotlivé podaktivity podrobně upravuje Příloha č. 5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B7283-67CB-474C-97AC-B29D31DF2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uze příjemce, který daňově neodepisu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hmotný majetek nad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ábytek do 40 tis. Kč - židle, stoly, lavice pro cílovo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kupi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ábytek a vybavení pro realizační tým - max. 15 tis. Kč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na 1 přepočtený úva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1D576-F315-45B5-B4BC-E8806718A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E7D8A-1BD2-4261-95B3-8A8AD02B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tisk skript, tvorba publikací, učebni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řeklady textů, zpracování analý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na zajištění konferencí a kurzů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řádaných v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rámci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BA5C4-5C03-4222-A9BA-8A5A8D5F7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97A4D-1271-4C73-9683-10D0D09D0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0E46E-5174-4EE7-9679-B0AF00712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úprava pracovních míst nebo úprava přístupu pro osoby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e zdravotním postižením, a úprava výukových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éninkových nebo pracovních prostor, používaných n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133B9-E47E-4767-8508-BECA6B55B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skytovány zaměstnavateli jako náhrada mzdy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ka účastnícího se dalšího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690840" indent="-265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asistentské služby žákům se speciálními potřeba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CF314-CCE4-4224-8C45-5BABCF748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329840" y="2185560"/>
            <a:ext cx="64580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2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dnadpis 1"/>
          <p:cNvSpPr/>
          <p:nvPr/>
        </p:nvSpPr>
        <p:spPr>
          <a:xfrm>
            <a:off x="1330200" y="3916440"/>
            <a:ext cx="68724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odnadpis 1"/>
          <p:cNvSpPr/>
          <p:nvPr/>
        </p:nvSpPr>
        <p:spPr>
          <a:xfrm>
            <a:off x="4870440" y="391644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délník 10"/>
          <p:cNvSpPr/>
          <p:nvPr/>
        </p:nvSpPr>
        <p:spPr>
          <a:xfrm>
            <a:off x="4114800" y="440856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bankovní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publicita projektu včetně úvodní a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závěrečn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8BD2D-CF00-4381-BD40-D7C248091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íl nepřímých nákladů se stanoví jako procento dané výzvou z přímých způsobilých výdajů celkem bez  křížového financování položka rozpočtu 10.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přímé náklady není třeba prokazovat účetními do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C4CE0-9430-46CF-8620-EC1029A9C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C8821-811E-4EEC-9FF0-0814A396F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3600" y="1072800"/>
            <a:ext cx="76042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86" name="Obrázek 15" descr="nn_benefit.JPG"/>
          <p:cNvPicPr/>
          <p:nvPr/>
        </p:nvPicPr>
        <p:blipFill>
          <a:blip r:embed="rId2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7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C3772-A7B4-498B-93CA-0A0C35ABD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CD1AC-5A06-447B-B7EE-B2E2B02EA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1D704-CFD5-4447-8A11-C2E9DABCA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01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85B6F-B00F-410C-B8C0-FD936D463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pozornost aktuálním informacím k výzvám na 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630A4-BDB8-4090-A431-317EFBBF6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g. Ivana Balouš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ivana.balouskova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08D0D-9C1A-4BD1-B959-509912B6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716AA-2F19-45DB-9A42-91399C6A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manažerské a administrativní pozi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1916D-4AD0-4938-A51E-1EAB9BBB5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informace ze záložky Realizační tým se automaticky nepřenášej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do záložky Rozpočet projekt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28DFA-EB99-46DC-BCFC-B8A2DE8FC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30200" y="2443320"/>
            <a:ext cx="6296040" cy="3093840"/>
          </a:xfrm>
          <a:prstGeom prst="rect">
            <a:avLst/>
          </a:prstGeom>
          <a:ln w="0">
            <a:noFill/>
          </a:ln>
        </p:spPr>
      </p:pic>
      <p:sp>
        <p:nvSpPr>
          <p:cNvPr id="592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5E200-CFEF-49DF-959B-2249B562B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34282-603E-4DED-9F68-5E787E89E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14:38:35Z</dcterms:modified>
  <cp:revision>64</cp:revision>
  <dc:subject/>
  <dc:title>Titulní strana – Titulek</dc:title>
</cp:coreProperties>
</file>